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6AC0-F725-462B-9C35-CFACE20A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965E-CDF0-4DE2-8246-EA004EF0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21F8-5484-41F2-AA26-17BCE731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DCAE-ACF4-4A9F-A98F-2F9DFFFE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A2B2-41B2-4A40-B420-5596E388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66F9-FC28-4954-9E5D-2F4A8D1A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81A9-03D5-4BE2-BA0B-713A4BBA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CA35-B405-4FFA-B7C1-75193AD9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8A8F-1CD6-4C15-86C5-A7F94275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FA1D-D54D-4C73-923C-F971C599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CD80-873E-4B99-92A7-81947C28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98A7-2A35-4C1F-9D6D-545460A4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FBE6-D7D7-446B-9801-6CFA2DEF5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snyder@socialcapital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19320" y="76320"/>
            <a:ext cx="6552000" cy="884160"/>
            <a:chOff x="1219320" y="76320"/>
            <a:chExt cx="6552000" cy="884160"/>
          </a:xfrm>
        </p:grpSpPr>
        <p:sp>
          <p:nvSpPr>
            <p:cNvPr id="42" name=""/>
            <p:cNvSpPr/>
            <p:nvPr/>
          </p:nvSpPr>
          <p:spPr>
            <a:xfrm>
              <a:off x="2816640" y="525960"/>
              <a:ext cx="96120" cy="9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19320" y="321840"/>
              <a:ext cx="13762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884280" y="33660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391880" y="64512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306200" y="20952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68240" y="74340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09640" y="32184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109640" y="56160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306200" y="448560"/>
              <a:ext cx="98280" cy="9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14800" y="54684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93320" y="76320"/>
              <a:ext cx="1278000" cy="8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48920" y="371160"/>
              <a:ext cx="98280" cy="9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8920" y="666000"/>
              <a:ext cx="98280" cy="97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03440" y="45936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54080" y="666000"/>
              <a:ext cx="98280" cy="97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1840" y="223560"/>
              <a:ext cx="147420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68720" y="71892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80400" y="693360"/>
              <a:ext cx="98280" cy="9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168720" y="27288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78680" y="17460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55880" y="17460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32960" y="17460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741560" y="469440"/>
              <a:ext cx="19656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94280" y="463320"/>
              <a:ext cx="0" cy="19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035320" y="270720"/>
              <a:ext cx="19656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7353360" y="311760"/>
              <a:ext cx="1368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7202160" y="393480"/>
              <a:ext cx="12456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6977880" y="393480"/>
              <a:ext cx="334080" cy="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6909120" y="506520"/>
              <a:ext cx="38808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187400" y="533160"/>
              <a:ext cx="15120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158960" y="533160"/>
              <a:ext cx="19440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82160" y="533160"/>
              <a:ext cx="4104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7201800" y="268560"/>
              <a:ext cx="109800" cy="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6952320" y="242280"/>
              <a:ext cx="344880" cy="1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94360" y="423000"/>
              <a:ext cx="1440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923880" y="393480"/>
              <a:ext cx="20808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09120" y="602640"/>
              <a:ext cx="166680" cy="1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144560" y="742320"/>
              <a:ext cx="24948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94760" y="283320"/>
              <a:ext cx="95400" cy="374400"/>
            </a:xfrm>
            <a:custGeom>
              <a:avLst/>
              <a:gdLst/>
              <a:ahLst/>
              <a:rect l="l" t="t" r="r" b="b"/>
              <a:pathLst>
                <a:path w="47" h="183">
                  <a:moveTo>
                    <a:pt x="34" y="183"/>
                  </a:moveTo>
                  <a:cubicBezTo>
                    <a:pt x="40" y="147"/>
                    <a:pt x="47" y="111"/>
                    <a:pt x="41" y="81"/>
                  </a:cubicBezTo>
                  <a:cubicBezTo>
                    <a:pt x="35" y="51"/>
                    <a:pt x="7" y="1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6937200" y="616320"/>
              <a:ext cx="235800" cy="2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7131960" y="657720"/>
              <a:ext cx="26280" cy="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7400" y="629280"/>
              <a:ext cx="22104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158960" y="423000"/>
              <a:ext cx="1440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2733120" y="381600"/>
              <a:ext cx="81360" cy="151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2884320" y="423000"/>
              <a:ext cx="194400" cy="123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84320" y="602640"/>
              <a:ext cx="165960" cy="109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12080" y="417960"/>
              <a:ext cx="98280" cy="9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" name=""/>
          <p:cNvGraphicFramePr/>
          <p:nvPr/>
        </p:nvGraphicFramePr>
        <p:xfrm>
          <a:off x="0" y="939960"/>
          <a:ext cx="9067680" cy="5689440"/>
        </p:xfrm>
        <a:graphic>
          <a:graphicData uri="http://schemas.openxmlformats.org/drawingml/2006/table">
            <a:tbl>
              <a:tblPr/>
              <a:tblGrid>
                <a:gridCol w="1471680"/>
                <a:gridCol w="2263680"/>
                <a:gridCol w="2422440"/>
                <a:gridCol w="2909880"/>
              </a:tblGrid>
              <a:tr h="51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nership type/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acteristic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nected Orga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rning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ing princi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ation-centric, arms-length market transa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e-off, hub-and-spoke alliances, mostly operat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unity network(s)” of players for shared learning and joint a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laboration strateg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hasis on self-sustainability; transactional “community outreach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portunistic, self-serving  alliances with others with complementary strate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rage the organization’s distinctive competencies in a system-wide context; learning-dri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ue for organization's targeted beneficiaries (e.g., customers, investors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ue for organization’s beneficiaries and partners’ in context of joint vent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timal collective value (defined jointly) for all system beneficiaries/ stakeholders; new capabilities as well as specific outco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-limited, whether local clinic or national council; if multi-level, then federated hierarchical stru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portunistic sponsor/partner/beneficiary relationships that reach across lev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ategically “saturated participation” of players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m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ltipl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cale levels who engage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 ea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evel (local, state, national, and other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rning ori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rn and innovate to compete and to improve 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rn for improving organization results and for developing sustainable partner syner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rning for results, for integrating system players, and as a core value for ongoing development at individual, organizational and societal level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stem governan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lkanized authority anchored in disparate, often competitive and uncoordinated organiz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ckets of collaborative decision-making according to trust levels; often along lines of leaders’ own affiliations versus deeper syner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lti-scale, multi-stakeholder system with transparent, participative governance structure and decision-making proce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-organization coordin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ends largely on the efficiency of market forces to “signal” coordin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plemental staff time/support for partner/network coordin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dicated “network coordinators,” partnership liaisons, and overall system-stewardship group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un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-down, bottom-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ery which way through private, formal or ad-hoc, informal cha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-directions via facilitated formal/informal channels, supplemented by a shared knowledge-management platfor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o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ations’ strategies and structure more or less adapt to market—clients, competitors, regulators, et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irball-like aggregation of overlapping partnerships responding to various opportun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si-evolutionary” dance of  organic emergence and intentional guidance via ongoing, strategic collaboration of stakehold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jor challen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ket shifts and compet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otiating growing number of agreements and relationships with disparate partn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6353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/skills/funds/legitimacy to coalesce diverse players for system stewardship; organization inertia and change-resistant leaders/practition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0" y="120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ship types &amp; disti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6629400"/>
            <a:ext cx="66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.M. Snyder, “Report on the Cancer Collaborative Northeast Demonstration,” 2004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snyder@socialcapital.com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01:48:33Z</dcterms:created>
  <dc:creator>william</dc:creator>
  <dc:description/>
  <dc:language>en-US</dc:language>
  <cp:lastModifiedBy>william</cp:lastModifiedBy>
  <dcterms:modified xsi:type="dcterms:W3CDTF">2009-04-10T01:57:31Z</dcterms:modified>
  <cp:revision>2</cp:revision>
  <dc:subject/>
  <dc:title>Slide 1</dc:title>
</cp:coreProperties>
</file>